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4EC7-0A66-4CDE-8F05-920AFA870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46C9-5A33-4BD8-9BB7-4549E259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E57F-7445-4FDD-BF86-DB99FE1D0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6636-083E-4D39-A878-53EFC9C73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9403-BECD-456A-ABB2-E9EF40C1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3D8F-F319-4024-9A04-AC986977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A7F1-6972-4D6A-8A01-4B3DDDF5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1F4D-85C1-4280-A424-5E53DACE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7EBF-88E7-4142-BF05-ACE784AB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BA1E-42F8-4558-BD73-6DB64F6A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931F-3BDD-4153-B16B-7A25756F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88F7-D55D-4263-BD7A-4058FDB2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F628-BC08-4083-B91B-4AD78F6B9B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Transmission_Control_Protoco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omputer_network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b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tArpTa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thereal (wireshar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ethereal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wireshark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sni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monkey.org/%7Edugsong/dsniff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ter: netfilter stu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ww.netfilter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vestigate windo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 add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pconfi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tst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erou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c addr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 http://coffer.com/mac_find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to chang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e Ethernet adapter's Properties menu, in the Advanced tab, as "MAC Address", "Locally Administered Address", "Ethernet Address", "Physical Address" or "Network Address"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pconfi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plays all current TCP/IP network configuration values and refreshes Dynamic Host Configuration Protocol (DHCP) and Domain Name System (DNS) setting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technet.microsoft.com/en-us/library/bb490921.asp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vestigate windo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tst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plays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network connec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both incoming and outgoing), routing tables, and a number of network interface statist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en.wikipedia.org/wiki/Netst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ies IP-level connectivity to another TCP/IP computer by sending Internet Control Message Protocol (ICMP) Echo Request messages. The receipt of corresponding Echo Reply messages are displayed, along with round-trip tim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en.wikipedia.org/wiki/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en.wikipedia.org/wiki/Internet_Control_Message_Protoc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aceroute (tracert on window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racerout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s a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omputer networ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ol used to determine the route taken by packets across an IP network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nds UDP packages, listens to ICMP answ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s TTL field in I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rst send packets with TTL 1, then TTL 2, TTL 3, et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ne of the two ICMP messages that Traceroute receives is the message port unreachable. The second one is the message time exceeded (TTL is 0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ttp://en.wikipedia.org/wiki/Tracerou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ndows: netsh -c dia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technet.microsoft.com/en-us/library/bb490939.asp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l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r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ndows: http://www.windowsreference.com/windows-xp/how-to-clear-arp-cache-in-windows-vistaxp20032000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p -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face 220.0.0.8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 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et Address Physical Address Type    220.0.0.160 00-50-04-62-F7-23 static The Physical Address or MAC address as shown above in the format aa-bb-cc-dd-ee-ff is the unique manufacturer identification number. This number should always be a unique addres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example of how to change the above IP address 220.0.0.160 to 220.0.0.161 in this case would be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p -s 220.0.0.161 00-50-04-62-F7-23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8:56:46Z</dcterms:created>
  <dc:creator>Tanel Tammet</dc:creator>
  <dc:description/>
  <dc:language>en-US</dc:language>
  <cp:lastModifiedBy>Tanel Tammet</cp:lastModifiedBy>
  <dcterms:modified xsi:type="dcterms:W3CDTF">2008-04-11T07:57:29Z</dcterms:modified>
  <cp:revision>20</cp:revision>
  <dc:subject/>
  <dc:title>Lab 1</dc:title>
</cp:coreProperties>
</file>